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E77-6F30-4F17-B212-9DCF6F64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FAB-4F3B-4FB6-B19E-9F34BB7F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65F-8E37-42D6-BFE1-B376302E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9B7-1152-49DF-87DF-4FBB4069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D113-F140-426E-BFB4-CFA254DA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31F8-D56D-4758-9B5B-0EB88A61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B252-FFD8-4834-B3C4-5E6642D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28B3-CF38-4BB1-B233-D5697077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8AA0-4BAC-42FC-8DC0-AEB98E3E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D051-84E1-4979-BD8C-40AD20DF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03E-20B1-4CAE-9271-EAE8B38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F3D-2DCB-4DB0-BE8A-A0984EB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3E99-8E06-4CF9-A95D-E9D24967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15EE-3C40-4954-9516-D23E9ED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F71A-C5C7-454D-9C92-E0E066B6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BB34-B37E-45D8-903C-FDB705D6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AF35-99B9-4760-A11E-BC6986D9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204-919E-4168-9577-7D8AFCC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D65-F4BC-40BA-B8BC-CEDAD715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F83-44E9-4FE7-84ED-04A85BE4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BB6-DFEC-4D8B-9E92-4A7BB669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B6E-267C-4635-AC5D-13B5F86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E9F-4036-4511-A39B-7BB1F13A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35A-BAE3-4816-ABD2-C8B3EA3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5BA1-C1DB-4686-B8E1-5B2ABCD63F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9F4A-4E56-449A-977C-A768E5A183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889080"/>
            <a:ext cx="604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4:28Z</dcterms:modified>
  <cp:revision>31</cp:revision>
  <dc:subject/>
  <dc:title>SALARIUL</dc:title>
</cp:coreProperties>
</file>